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89F3-1EE3-4409-81C4-752700AA8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AD0D-7836-4189-A93A-59AC54F209A1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6FE2-1631-4420-BB6D-416F206B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5D06-9762-44AA-B287-82540E6C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23CE-AE3F-4622-A9CE-0FFF32FC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4525-848E-4CF2-9826-5BACF8FE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3BC6-596D-46C9-8517-8075344B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7167-1E44-47AC-939C-9C9E16AB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111C-5385-47C5-B62B-FA98BA3D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678F-4A25-4B41-94C0-923AFA5A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F490-8378-4378-B933-12EF7F98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E03E-B773-42D2-9E3B-10CCC86B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737F-BA38-4984-BE65-B9BEC41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7550-5452-4AF1-B632-A585D15B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34B6-CADF-4897-85BE-0FEBF3881C33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9992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5e47"/>
                </a:solidFill>
                <a:latin typeface="Cambria"/>
              </a:rPr>
              <a:t>Функционирование медицинских организаций ХМАО-Югры в условиях одноканального финансирования здравоохранения</a:t>
            </a:r>
            <a:br>
              <a:rPr sz="2800"/>
            </a:br>
            <a:r>
              <a:rPr b="1" lang="ru-RU" sz="2800" spc="-1" strike="noStrike">
                <a:solidFill>
                  <a:srgbClr val="675e47"/>
                </a:solidFill>
                <a:latin typeface="Cambria"/>
              </a:rPr>
              <a:t> на примере </a:t>
            </a:r>
            <a:br>
              <a:rPr sz="2800"/>
            </a:br>
            <a:r>
              <a:rPr b="1" lang="ru-RU" sz="2800" spc="-1" strike="noStrike">
                <a:solidFill>
                  <a:srgbClr val="675e47"/>
                </a:solidFill>
                <a:latin typeface="Cambria"/>
              </a:rPr>
              <a:t>муниципального бюджетного учреждения здравоохранения </a:t>
            </a:r>
            <a:br>
              <a:rPr sz="2800"/>
            </a:br>
            <a:r>
              <a:rPr b="1" lang="ru-RU" sz="2800" spc="-1" strike="noStrike">
                <a:solidFill>
                  <a:srgbClr val="675e47"/>
                </a:solidFill>
                <a:latin typeface="Cambria"/>
              </a:rPr>
              <a:t>«Клиническая городская поликлиника №1» города Сургута 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63640" y="491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Главный врач МБУЗ «КГП №1»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кандидат медицинских наук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42f23"/>
                </a:solidFill>
                <a:latin typeface="Calibri"/>
              </a:rPr>
              <a:t>Максим Николаевич Слепов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4325760" y="1373040"/>
            <a:ext cx="4089600" cy="336096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324000" y="1413000"/>
            <a:ext cx="388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Протяженность пути из отдаленных участков обслуживаемой территории до поликлиник (взрослой и детской) составляет 3-5 км 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2556000" y="5083200"/>
            <a:ext cx="59036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Решение проблемы: открытие офисов врачей общей практики совместно с педиатрами и акушерами-гинекологами общей площадью 1100 кв. м.</a:t>
            </a:r>
            <a:endParaRPr b="0" lang="en-US" sz="2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Проблемы преимущественно одноканального финансирования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6" name="Picture 16" descr=""/>
          <p:cNvPicPr/>
          <p:nvPr/>
        </p:nvPicPr>
        <p:blipFill>
          <a:blip r:embed="rId2"/>
          <a:stretch/>
        </p:blipFill>
        <p:spPr>
          <a:xfrm>
            <a:off x="-36360" y="4938840"/>
            <a:ext cx="2232000" cy="194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3"/>
          <a:stretch/>
        </p:blipFill>
        <p:spPr>
          <a:xfrm>
            <a:off x="2195640" y="3429000"/>
            <a:ext cx="2160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91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7620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Предложения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692280"/>
            <a:ext cx="8604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196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Для сокращения дефицита площадей необходимо предусмотреть 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возможность приобретения помещени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й на первых этажах в строящихся жилых домах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94840" indent="-196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ключить в целевые программы, действующие на территории округа по соответствующему направлению, 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проведение капитального ремонта зданий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передаваемых с 01.01.2014 года в государственную собственность учреждений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94840" indent="-196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 целях своевременного обновления основных средств необходимо включить в структуру тарифа в системе ОМС 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приобретение мебели и дорогостоящего оборудования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. В части приобретения дорогостоящего оборудования выйти с инициативой на федеральный уровень о внесении соответствующих поправок в нормативно-правовые документы. На начальном этапе перехода муниципальных учреждений в государственную собственность, необходимо в приоритетном порядке обеспечить 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обновление и дополнительную закупку дорогостоящего оборудования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, в том числе серверов, в учреждениях, осуществляющих оказание первичной медико-санитарной помощи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76201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Предложения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692280"/>
            <a:ext cx="84596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Для привлечения медицинских кадров в систему здравоохранения округа 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увеличить установленную предельную ежемесячную норму возмещения расходов до 80 процентов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по договору найма, аренды жилого помещен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В целях повышения эффективности функционирования системы здравоохранения, 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рассмотреть возможность иного порядка обеспечения  бесплатными молочными продуктами питания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детей первых трёх лет жизни и сухой молочной смесью  беременных женщин и кормящих матерей. Например, через сеть аптечных учреждений или  возможной монетизацией данных социальных гарантий. Освободив тем самым учреждения от выполнения несвойственных им функций внесением соответствующих изменений в нормативно-правовое документы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1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935360" cy="2895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2"/>
          <a:stretch/>
        </p:blipFill>
        <p:spPr>
          <a:xfrm>
            <a:off x="7162920" y="4038480"/>
            <a:ext cx="190476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3"/>
          <a:stretch/>
        </p:blipFill>
        <p:spPr>
          <a:xfrm>
            <a:off x="5638680" y="76320"/>
            <a:ext cx="1419480" cy="213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4"/>
          <a:stretch/>
        </p:blipFill>
        <p:spPr>
          <a:xfrm>
            <a:off x="2209680" y="76320"/>
            <a:ext cx="1600200" cy="2133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5"/>
          <a:stretch/>
        </p:blipFill>
        <p:spPr>
          <a:xfrm>
            <a:off x="7162920" y="76320"/>
            <a:ext cx="1866960" cy="3771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6"/>
          <a:stretch/>
        </p:blipFill>
        <p:spPr>
          <a:xfrm>
            <a:off x="3962520" y="76320"/>
            <a:ext cx="152388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7"/>
          <a:stretch/>
        </p:blipFill>
        <p:spPr>
          <a:xfrm>
            <a:off x="4876920" y="4722840"/>
            <a:ext cx="2133360" cy="205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8"/>
          <a:stretch/>
        </p:blipFill>
        <p:spPr>
          <a:xfrm>
            <a:off x="2133720" y="4695840"/>
            <a:ext cx="2361960" cy="2085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9"/>
          <a:stretch/>
        </p:blipFill>
        <p:spPr>
          <a:xfrm>
            <a:off x="152280" y="3209760"/>
            <a:ext cx="1905120" cy="35719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21"/>
          <p:cNvSpPr txBox="1"/>
          <p:nvPr/>
        </p:nvSpPr>
        <p:spPr>
          <a:xfrm>
            <a:off x="2357280" y="3786120"/>
            <a:ext cx="4572000" cy="7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2" name="Picture 23" descr="Untitled-1"/>
          <p:cNvPicPr/>
          <p:nvPr/>
        </p:nvPicPr>
        <p:blipFill>
          <a:blip r:embed="rId10"/>
          <a:stretch/>
        </p:blipFill>
        <p:spPr>
          <a:xfrm>
            <a:off x="2133720" y="2286000"/>
            <a:ext cx="502920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27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5e47"/>
                </a:solidFill>
                <a:latin typeface="Cambria"/>
              </a:rPr>
              <a:t>Краткая характеристика МБУЗ «КГП №1» 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78552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2b20"/>
                </a:solidFill>
                <a:latin typeface="Calibri"/>
              </a:rPr>
              <a:t>на 01.10.2013 года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3 основных здания общей площадью 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3908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  кв.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Мощность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287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 посещений в смену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4 дневных стационара мощностью 74 койки, работающих в 2-3 смены (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74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 пациенто-места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27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 медицинских  кабинетов в образовательных учреждениях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678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 основных сотрудников, из них 155 врачей, 352 средних медицинских работник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Количество штатных должностей всего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1003,75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, в том числе штатных должностей врачебного персонала – 270,0, средних медицинских работников – 501,5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Прикрепленное население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92 762</a:t>
            </a: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 человека (72 935 – взрослые,     2 313 – подростки, 17 514 - дети)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0" y="5202360"/>
            <a:ext cx="30877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5867280" y="5202360"/>
            <a:ext cx="2592360" cy="163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:\Новая папка\P1010427.JPG"/>
          <p:cNvPicPr/>
          <p:nvPr/>
        </p:nvPicPr>
        <p:blipFill>
          <a:blip r:embed="rId3"/>
          <a:stretch/>
        </p:blipFill>
        <p:spPr>
          <a:xfrm>
            <a:off x="3087720" y="5202360"/>
            <a:ext cx="27795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Динамика поступления финансовых средств в МБУЗ «КГП №1» за период 2006-2013 гг.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5877000"/>
            <a:ext cx="8459640" cy="95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В 2012 году в структуре средства ОМС 75%, средства бюджетов 21%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Calibri"/>
              </a:rPr>
              <a:t>За 10 месяцев 2013 года в структуре  ОМС 77%, средства бюджетов 19%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59" name="Диаграмма 4"/>
          <p:cNvGraphicFramePr/>
          <p:nvPr/>
        </p:nvGraphicFramePr>
        <p:xfrm>
          <a:off x="0" y="1197000"/>
          <a:ext cx="853272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8532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8459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75e47"/>
                </a:solidFill>
                <a:latin typeface="Cambria"/>
              </a:rPr>
              <a:t>Структура расходов в МБУЗ «КГП №1» за 2012-2013 годы</a:t>
            </a:r>
            <a:endParaRPr b="0" lang="en-US" sz="2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Заголовок 1"/>
          <p:cNvSpPr/>
          <p:nvPr/>
        </p:nvSpPr>
        <p:spPr>
          <a:xfrm>
            <a:off x="0" y="3141720"/>
            <a:ext cx="84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Статьи расходов, оплачиваемые из средств ОМС</a:t>
            </a:r>
            <a:endParaRPr b="0" lang="en-US" sz="3000" spc="-1" strike="noStrike">
              <a:solidFill>
                <a:srgbClr val="2f2b2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7620120" cy="480060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5" descr=""/>
          <p:cNvPicPr/>
          <p:nvPr/>
        </p:nvPicPr>
        <p:blipFill>
          <a:blip r:embed="rId2"/>
          <a:stretch/>
        </p:blipFill>
        <p:spPr>
          <a:xfrm>
            <a:off x="3276720" y="476280"/>
            <a:ext cx="5248080" cy="323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3597120"/>
          <a:ext cx="8459640" cy="3232440"/>
        </p:xfrm>
        <a:graphic>
          <a:graphicData uri="http://schemas.openxmlformats.org/drawingml/2006/table">
            <a:tbl>
              <a:tblPr/>
              <a:tblGrid>
                <a:gridCol w="4230720"/>
                <a:gridCol w="42289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2 год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3 год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286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1 заработная плата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3 начисления на выплаты по оплате труда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26 прочие работы и услуги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40 увеличение стоимости материальных запасов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1 заработная плата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2 прочие выплаты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3 начисления на выплаты по оплате труда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21 оплата работ, услуг связи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22 оплата работ, услуг  транспорта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23 оплата  коммунальных услуг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24 арендная плата за пользование имуществом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25 оплата работ, услуг по содержанию имущества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26 оплата прочих работ и услуг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90 прочие расходы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10 увеличение стоимости основных средств;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40 приобретение материальных запасов.</a:t>
                      </a: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2f2b2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  <p:pic>
        <p:nvPicPr>
          <p:cNvPr id="66" name="Объект 6" descr=""/>
          <p:cNvPicPr/>
          <p:nvPr/>
        </p:nvPicPr>
        <p:blipFill>
          <a:blip r:embed="rId3"/>
          <a:stretch/>
        </p:blipFill>
        <p:spPr>
          <a:xfrm>
            <a:off x="-50760" y="498600"/>
            <a:ext cx="532116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Уровень средней заработной платы сотрудников МБУЗ «КГП №1»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-50760" y="1506600"/>
            <a:ext cx="8561520" cy="456552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1"/>
          <p:cNvSpPr/>
          <p:nvPr/>
        </p:nvSpPr>
        <p:spPr>
          <a:xfrm>
            <a:off x="662040" y="578484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75e47"/>
                </a:solidFill>
                <a:latin typeface="Calibri"/>
              </a:rPr>
              <a:t>Прирост заработной платы за год: врачи 15,5% , средний медицинский персонал  - 14%, младший медицинский персонал – 30,8%.</a:t>
            </a:r>
            <a:endParaRPr b="0" lang="en-US" sz="2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2736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Положительные стороны преимущественно одноканального финансирования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1045800"/>
            <a:ext cx="8459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Повышение управляемости финансовых потоков, автономности учреждения, ответственности руководителя за вверенное учреждени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Эффективность контроля над рациональным и целевым использованием средств (оптимизация штатного расписания и аутсорсинг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Подушевой принцип финансирования амбулаторно-поликлинических учреждений, при котором они получают средства ОМС не за каждый отдельный прием пациента, а за всех прикрепленных граждан. Это создает дополнительные стимулы для профилактической работы в первичном звене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Мотивация пациент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Мотивация системы здравоохранения на охрану здоровья населения, усиление профилактической направленности, внедрение здоровьесберегающих технологий, повышение качества услуг и интенсивности лечения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Отрицательное влияние перехода на преимущественно одноканальное финансирование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0768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неравномерное финансовое положение медицинских учреждений и различные стартовые условия перехода на одноканальное финансировани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невозможность учесть даже в групповых тарифах многообразие инфраструктуры учреждени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наличие обширных зон неэффективного использования ресурсов в учреждениях (штаты, укомплектованность, коммунальные услуги, транспортные услуги, услуги по содержанию учреждений и другие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Проблемы преимущественно одноканального финансирования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7640" y="1052640"/>
            <a:ext cx="835164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1598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Увеличился объем принимаемых финансовых обязательств, оплата которых ранее осуществлялась из бюджета городского округа и не включалось в сметы учреждения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40120" indent="-1598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Объем  финансовых средств, направляемый посредством предоставления субсидии на иные цели или через целевые программы, не обеспечивает  необходимого обновления медицинского оборудования и мебели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40120" indent="-1598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Отсутствие средств на капитальный ремонт здания  взрослой поликлиники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40120" indent="-1598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Проблема наличия медицинских кадров, компенсации за аренду жилых помещений для медицинского персонала (врачей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240120" indent="-15984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5715000" y="5027760"/>
            <a:ext cx="2744640" cy="1857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34920" y="4978440"/>
            <a:ext cx="22334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36360" y="4653000"/>
            <a:ext cx="4410000" cy="2205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4" descr="7772"/>
          <p:cNvPicPr/>
          <p:nvPr/>
        </p:nvPicPr>
        <p:blipFill>
          <a:blip r:embed="rId2"/>
          <a:stretch/>
        </p:blipFill>
        <p:spPr>
          <a:xfrm>
            <a:off x="6153120" y="1413000"/>
            <a:ext cx="2316240" cy="2889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75e47"/>
                </a:solidFill>
                <a:latin typeface="Cambria"/>
              </a:rPr>
              <a:t>Проблемы преимущественного одноканального финансирования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4560" y="1844280"/>
            <a:ext cx="597708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Значительный дефицит площадей и наличие приспособленных зданий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Дефицит площадей женской консультации составляет около 3000 кв. м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Потребность в площадях для размещения Центра здоровья составляет 750 кв.м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6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17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9:59:09Z</dcterms:created>
  <dc:creator>Оператор</dc:creator>
  <dc:description/>
  <dc:language>en-US</dc:language>
  <cp:lastModifiedBy>Оператор</cp:lastModifiedBy>
  <cp:lastPrinted>2013-11-26T04:08:09Z</cp:lastPrinted>
  <dcterms:modified xsi:type="dcterms:W3CDTF">2013-11-28T10:26:25Z</dcterms:modified>
  <cp:revision>66</cp:revision>
  <dc:subject/>
  <dc:title>Функционирование медицинских организаций ХМАО-Югры в условиях одноканального финансирования здравоохранения  на примере  муниципального бюджетного учреждения здравоохранения  «Клиническая городская поликлиника №1» города Сургута</dc:title>
</cp:coreProperties>
</file>